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E617-9C70-49E4-972F-C72EA431C89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4EE0-EB2F-42A3-823C-66CE885CBB1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7F31-9A38-4400-BCC2-DB618C09DCA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4A1B-8CCF-4319-A552-24FA78BB24B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296F-76F4-4884-B181-C547A1E160F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381B-5AF8-489D-AE95-1CFE6B7D811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CDC3-17A4-4C2F-8A48-33F473B309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473B-84B3-45B6-B347-5F5750FCBFD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F167-5E5A-4D54-A922-F52161A366D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BE79-D9FF-4CD6-8189-575ECBE274E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C48E-E9E2-440E-8692-7D4988E6CD8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F242-3868-4C47-AA04-8F744035711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8BE2-96AD-4B01-8344-D39500D1D73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1B98-C76C-4E9E-8877-F9077DD4CF4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0FCF-B314-4A6F-B4E3-2A097ADF3DA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DB0D-F855-4E47-B1B0-1B9ADE3EB4D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985F-61E3-400E-8571-DAC101DCB11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F87F-139F-46B4-B824-2DF72D81B5B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24CC-14A4-47C5-A323-7F272A335BC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398-95E1-4E7A-9E60-F43F0617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2CD-7340-45A5-B0FB-6E5F6C84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5AF6-85B7-4686-84E3-50AEFDD3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598-B4E2-4887-8158-028687C8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627-7A65-425C-B9F2-FCB9C700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D62-A36E-40AE-8826-5C392DC1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65B-16B5-4846-829D-D4EAC45B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D42-FB94-4309-A985-1F6988F2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680-C2B8-48AB-AEE1-A4C7BE96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1B7-1886-4BEA-9B13-891EFB6E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13F-1D0A-47D2-9279-9D3F7EFF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F97-3823-4B9E-89B3-02EBBDEB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2068-4B4F-49DD-9E7B-B0449BCF678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1495-159E-4C1D-B546-7ED8963C5E8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ixaDeTexto 4"/>
          <p:cNvSpPr/>
          <p:nvPr/>
        </p:nvSpPr>
        <p:spPr>
          <a:xfrm>
            <a:off x="0" y="33336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Calibri"/>
              </a:rPr>
              <a:t>Universidade de 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Calibri"/>
              </a:rPr>
              <a:t>Instituto de Matemática e Estat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rabalho de Formatura Supervisio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ixaDeTexto 5"/>
          <p:cNvSpPr/>
          <p:nvPr/>
        </p:nvSpPr>
        <p:spPr>
          <a:xfrm>
            <a:off x="0" y="2565360"/>
            <a:ext cx="9144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Calibri"/>
              </a:rPr>
              <a:t>Test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nálise multidisciplinar sobre um projeto de automação indus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ixaDeTexto 6"/>
          <p:cNvSpPr/>
          <p:nvPr/>
        </p:nvSpPr>
        <p:spPr>
          <a:xfrm>
            <a:off x="0" y="537372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odolfo Boffo de Sou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rientador: Prof. Dr. Marco Dimas Gubit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spaço Reservado para Número de Slide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F9F5-8E11-4E49-BC1E-32EB708B0E2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A pílula vermelha - </a:t>
            </a:r>
            <a:r>
              <a:rPr b="0" i="1" lang="pt-BR" sz="4400" spc="-1" strike="noStrike">
                <a:solidFill>
                  <a:srgbClr val="ffffff"/>
                </a:solidFill>
                <a:latin typeface="Calibri"/>
              </a:rPr>
              <a:t>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junto de classes cooperativas que formam um design reutilizável para determinado esco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acilitam o desenvolvimento de aplicaç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redefinem classes, relacionamentos e o fluxo de cont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senvolvedor se concentra nas aplicações específ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versão de cont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D47A-2470-4E5D-B275-05D02383642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esenvolvimento - </a:t>
            </a:r>
            <a:r>
              <a:rPr b="0" i="1" lang="pt-BR" sz="4400" spc="-1" strike="noStrike">
                <a:solidFill>
                  <a:srgbClr val="ffffff"/>
                </a:solidFill>
                <a:latin typeface="Calibri"/>
              </a:rPr>
              <a:t>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Espaço Reservado para Conteúdo 4" descr="classes_framework.png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3048120"/>
          </a:xfrm>
          <a:prstGeom prst="rect">
            <a:avLst/>
          </a:prstGeom>
          <a:ln w="0">
            <a:noFill/>
          </a:ln>
        </p:spPr>
      </p:pic>
      <p:sp>
        <p:nvSpPr>
          <p:cNvPr id="89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342C-3C7A-4561-B681-FFFA0E371DA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Modelo de d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Espaço Reservado para Conteúdo 6" descr="database.png"/>
          <p:cNvPicPr/>
          <p:nvPr/>
        </p:nvPicPr>
        <p:blipFill>
          <a:blip r:embed="rId1"/>
          <a:stretch/>
        </p:blipFill>
        <p:spPr>
          <a:xfrm>
            <a:off x="7380360" y="5229360"/>
            <a:ext cx="1036440" cy="1036440"/>
          </a:xfrm>
          <a:prstGeom prst="rect">
            <a:avLst/>
          </a:prstGeom>
          <a:ln w="0">
            <a:noFill/>
          </a:ln>
        </p:spPr>
      </p:pic>
      <p:sp>
        <p:nvSpPr>
          <p:cNvPr id="92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F018-5B67-4C62-84E1-9F8242E2415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magem 7" descr="modelo_dados.png"/>
          <p:cNvPicPr/>
          <p:nvPr/>
        </p:nvPicPr>
        <p:blipFill>
          <a:blip r:embed="rId2"/>
          <a:stretch/>
        </p:blipFill>
        <p:spPr>
          <a:xfrm>
            <a:off x="1835280" y="1989000"/>
            <a:ext cx="55450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Estensõ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ponentes de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dicionam habilidades específ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conhecidas pelo 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framework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através de Reflex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0EFD-114C-45A7-B812-8FAB5108A3B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m 4" descr="puzzle.jpg"/>
          <p:cNvPicPr/>
          <p:nvPr/>
        </p:nvPicPr>
        <p:blipFill>
          <a:blip r:embed="rId1"/>
          <a:stretch/>
        </p:blipFill>
        <p:spPr>
          <a:xfrm>
            <a:off x="5435640" y="3252960"/>
            <a:ext cx="331308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Estensões -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lasses abstra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vem ser estendidas pelo módulo de ensa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F2B2-CAEF-4718-9998-A7C14C07CC9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Espaço Reservado para Conteúdo 4" descr="classes_framework.png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048120"/>
          </a:xfrm>
          <a:prstGeom prst="rect">
            <a:avLst/>
          </a:prstGeom>
          <a:ln w="0">
            <a:noFill/>
          </a:ln>
        </p:spPr>
      </p:pic>
      <p:sp>
        <p:nvSpPr>
          <p:cNvPr id="102" name="Retângulo 7"/>
          <p:cNvSpPr/>
          <p:nvPr/>
        </p:nvSpPr>
        <p:spPr>
          <a:xfrm>
            <a:off x="2340000" y="3645000"/>
            <a:ext cx="4176720" cy="863640"/>
          </a:xfrm>
          <a:prstGeom prst="rect">
            <a:avLst/>
          </a:prstGeom>
          <a:solidFill>
            <a:srgbClr val="c00000">
              <a:alpha val="11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Ensaio de tr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rpo de prova de dimensões padroniz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bmeter material a um esforço que tende alongá-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terminação de propriedades do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BB0A-C1B3-4E8E-B975-A31855174AA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Ensaio de tr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ódulo de elasticidade (lei de Hook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DD0D-FC6E-4D21-AF50-58DB3D2B8DE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m 4" descr="grafico.jpg"/>
          <p:cNvPicPr/>
          <p:nvPr/>
        </p:nvPicPr>
        <p:blipFill>
          <a:blip r:embed="rId1"/>
          <a:stretch/>
        </p:blipFill>
        <p:spPr>
          <a:xfrm>
            <a:off x="1979640" y="2133720"/>
            <a:ext cx="496080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ódigo bem organizado = fácil manuten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enefícios do uso de padrões de proje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mportância da refatoração do códi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roduto final: 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framework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para ensaios + plugin para ensaio de tração em materiais metál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49D8-DB6A-491C-9E3F-BD6EFC60EFF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Trabalhos futur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senvolvimento de novos módulos de ensa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Uso de outros conversores digit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ova interface gráfica com WP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paração entre ensa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portação de relatórios em formato aber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95F4-1AD6-4175-A475-89486BB3846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TestView em 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335736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Calibri"/>
              </a:rPr>
              <a:t>Muito obrigado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D38F-3EDB-48F6-8C68-26F95925BD9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O Iní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stágio supervision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safio de criar um software para ensaio de tração em materiais metál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leta de dados de um conversor analógico-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nálise e geração de relatórios de ensa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8931-3ED0-473C-95C7-20F2A386DCF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m 7" descr="tinius.jpg"/>
          <p:cNvPicPr/>
          <p:nvPr/>
        </p:nvPicPr>
        <p:blipFill>
          <a:blip r:embed="rId1"/>
          <a:stretch/>
        </p:blipFill>
        <p:spPr>
          <a:xfrm>
            <a:off x="6948360" y="3645000"/>
            <a:ext cx="185112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Suces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oftware desenvolvido e comercializado para empresas com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UERJ - Universidade do Estado do Rio de Janeiro</a:t>
            </a:r>
            <a:br>
              <a:rPr sz="2400"/>
            </a:br>
            <a:r>
              <a:rPr b="0" lang="pt-BR" sz="2000" spc="-1" strike="noStrike">
                <a:solidFill>
                  <a:srgbClr val="c00000"/>
                </a:solidFill>
                <a:latin typeface="Calibri"/>
              </a:rPr>
              <a:t>Faculdade de Engenhari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Tork Controle de Materiais Ltda – Rio de Janeiro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Proaqt Empreendimento Tecnológicos Ltda – Osas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ntre out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47CD-A843-4888-AD1D-C51A41DBEC9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m 4" descr="cifrao.jpg"/>
          <p:cNvPicPr/>
          <p:nvPr/>
        </p:nvPicPr>
        <p:blipFill>
          <a:blip r:embed="rId1"/>
          <a:stretch/>
        </p:blipFill>
        <p:spPr>
          <a:xfrm>
            <a:off x="7308720" y="4724280"/>
            <a:ext cx="1333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Mais do me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rge então nova dema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esmo conversor analógico-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nsaio de compressão em concre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A6E3-7570-4C15-9867-4B2C0E828FA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m 4" descr="forney.jpg"/>
          <p:cNvPicPr/>
          <p:nvPr/>
        </p:nvPicPr>
        <p:blipFill>
          <a:blip r:embed="rId1"/>
          <a:stretch/>
        </p:blipFill>
        <p:spPr>
          <a:xfrm>
            <a:off x="5867280" y="3068640"/>
            <a:ext cx="28101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Uma escol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safios semelh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empo curto para desenvolvimen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aminho fácil ou difíci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6E9E-61A4-4F31-A50E-5955250F637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m 6" descr="pilulas.jpg"/>
          <p:cNvPicPr/>
          <p:nvPr/>
        </p:nvPicPr>
        <p:blipFill>
          <a:blip r:embed="rId1"/>
          <a:stretch/>
        </p:blipFill>
        <p:spPr>
          <a:xfrm>
            <a:off x="1692360" y="3284640"/>
            <a:ext cx="5572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A pílula azul – O caminho fác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cisão: bifurcação do proje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daptações no códi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enor tempo de desenvolvi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Um novo produto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0E4C-656A-4EFB-A67B-439CEC0D934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m 7" descr="thumbs up.jpg"/>
          <p:cNvPicPr/>
          <p:nvPr/>
        </p:nvPicPr>
        <p:blipFill>
          <a:blip r:embed="rId1"/>
          <a:stretch/>
        </p:blipFill>
        <p:spPr>
          <a:xfrm>
            <a:off x="6372360" y="3284640"/>
            <a:ext cx="18018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Nada é perfeito - O probl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ois produtos disti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aior custo de manuten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iscrepância entre o código com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ódigo mal escr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8499-6CA2-46ED-8C33-D5CFD460C56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m 7" descr="thumbs up.jpg"/>
          <p:cNvPicPr/>
          <p:nvPr/>
        </p:nvPicPr>
        <p:blipFill>
          <a:blip r:embed="rId1"/>
          <a:stretch/>
        </p:blipFill>
        <p:spPr>
          <a:xfrm flipH="1" rot="11392200">
            <a:off x="6357600" y="3912480"/>
            <a:ext cx="16747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A necessid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elhor organização do códi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ódigo reutilizá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elhor uso de padrões de proje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8669-CBF4-4BC4-96C8-ACE62BFBE14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agem 6" descr="checklist.jpg"/>
          <p:cNvPicPr/>
          <p:nvPr/>
        </p:nvPicPr>
        <p:blipFill>
          <a:blip r:embed="rId1"/>
          <a:stretch/>
        </p:blipFill>
        <p:spPr>
          <a:xfrm>
            <a:off x="4500720" y="3573360"/>
            <a:ext cx="41115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O obje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fatoração do códi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riação de um 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framework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entralizando o código com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ódulos de ensaio como 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plug-in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isti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ovas funcionalidades: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mazenamento e recuperação de ensaio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tegração com banco de d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ço Reservado para Número de Slid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04EC-30AE-4773-9F2D-1AAAE1F7AC2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agem 4" descr="bullseye.jpg"/>
          <p:cNvPicPr/>
          <p:nvPr/>
        </p:nvPicPr>
        <p:blipFill>
          <a:blip r:embed="rId1"/>
          <a:stretch/>
        </p:blipFill>
        <p:spPr>
          <a:xfrm>
            <a:off x="7145280" y="4869000"/>
            <a:ext cx="199872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0T13:21:52Z</dcterms:created>
  <dc:creator>Rodolfo</dc:creator>
  <dc:description/>
  <dc:language>en-US</dc:language>
  <cp:lastModifiedBy>Rodolfo</cp:lastModifiedBy>
  <dcterms:modified xsi:type="dcterms:W3CDTF">2012-11-12T12:31:59Z</dcterms:modified>
  <cp:revision>44</cp:revision>
  <dc:subject/>
  <dc:title>Slide 1</dc:title>
</cp:coreProperties>
</file>