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1FBD-F92D-41C6-8366-1172F532976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artigo recente é de Timo Knuutil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16C-8CF2-4FD1-85AA-8739030F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D8C-DBFD-449A-BEFF-40A1CFE9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EF5-1247-4CBB-BF7C-B3F67BA3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2CA-56F2-4C04-A64A-A4297CA2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323-C731-4E76-BDAC-D6CA542A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53D-90C4-45D9-989E-5C9623EA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160-DCD9-4893-AFE1-13D4D563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1D8-F319-481A-8C46-02E4542A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6E0-327C-4E8A-B87D-9735B29C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560-E938-4A6A-94A6-81F0144E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7DF-7DB4-4A9A-B30B-6B46640F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6D6-EFED-460B-9789-76DFC06A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FEC8-99C9-4204-A92E-E31DF212C2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499 – Trabalho de Formatura Supervisionado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E-USP – BCC, 2001 – Prof. responsável: Carlos Eduardo Ferreira</a:t>
            </a:r>
            <a:br>
              <a:rPr sz="20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to de Iniciação Científic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ômatos Finitos: Algoritmos e Estruturas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uno: Leo Kazuhiro U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ora: Nami Kobaya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que faz de fato o algoritmo s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log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é a ordem em que são feitas as divisões, e essa é principal característica do algorit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a complexidade de tempo depende de uma implementação eficiente de algumas estruturas de dados (listas ligadas e conjun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espaço gasto com as estruturas é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mo de Revu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aplicado em autômatos acícl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m complexidade O(|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n) de tempo e espaç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autômato acíclico é um autômato cujo grafo é acícl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utômatos acíclicos são muito usados para representar dicionários e manipular funções boole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Iní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icialmente é calculada uma partiçã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... , onde um estado pertence ao bloc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sse a sua altura é i. A figura ilustra essa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rev-alturas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34383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Idé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idéia é nomear cada estado de um bloco de acordo com as suas transições, de forma que um estado é equivalente a outro sse têm nomes ig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seguida ordenamos os nomes de cada bloco para encontrarmos os nomes ig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v-ex1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9325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algoritmo de ordenação deve ser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ordenação proposta por Revuz é semelhante ao radix s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ém disso, os nomes dados aos estados não podem ser muito grandes (têm que ser de alguma forma lineares també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m problema de busca de padr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udamos também a aplicação de Autômatos Finitos num caso de busca de padrões num 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dos um dicionário K com palavras 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,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um texto x, também uma palavra 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queremos saber quais palavras de K ocorrem em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algoritmo de Alfred Aho e Margaret Corasick constrói um autômato que reconhece a linguag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busca de x nesse autômato consome tempo linear no tamanho de x, ou seja, independe de 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ho-Corasick - Ex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 para K = {he, she, hers, his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c-aut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2005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ho-Corasick -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tempo de construção do autômato pode ser linear no tamanho d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espaço também pode ser linear em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verdade, as complexidades de tempo e espaço dependem muito da implementação. Em geral é feita uma troca de espaço por tempo ou vice-ve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strução utiliza as mesmas idéias do algoritmo K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mos os três algoritmos em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objetivo das implementações era apenas compreender melhor os algorit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ou discussões interess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ustr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balho praticamente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s não muito concr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 que esse te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inal de 2000 estava procurando por um projeto de iniciação científ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itos assuntos aparentemente interessantes e pouco conhecimento sobre eles: indeci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a. Nami ofereceu aju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squisei vários projetos em Autômatos, mas continuei com o mesmo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mos então este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experiência foi positiva, aprendi ba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a de trabalho com a orientadora foi uma novidade interess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disciplinas que eu apliquei diretamente neste trabalho fo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ôma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e de Algoritmos e Geometria Computacional, para a parte de análise de algoritm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isciplinas básicas e de programação, como ED, Lab1 e 2, POO, Concorrente, X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Proje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: adquirir mais conhecimentos fundamentais da Teoria de Autômatos Finitos para poder futuramente estudar aplicações mais compl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é agora estuda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mos de Minimização de Autômatos Fin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de Hopcr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de Revuz para autômatos acíc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ção num problema de busca de padr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Aho-Coras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pouco de Autômato dos Sufi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ó lembrand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autômato é uma quíntup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o conjunto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  o alfabeto (conjunto de símbo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 a função de trans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o estado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conjunto dos estados fi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mos que n é o número de estados do autômato (n = |Q|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mo de Hopcro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197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hn Hopcro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blica um novo algoritmo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n log 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artigo original era muito complicado, entã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vid G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blica uma descrição mais clara (com uma pequena modificaçã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outro artigo recente afirma que, ao contrário do que todos acreditam,  a versão de Hopcroft não é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n log 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iz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oblema que queremos resolver é minimizar o número de estados de um autômato finito determinís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outras palavras, dado um autômato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queremos encontrar o autômato minimal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m o menor número de estados e tal que L(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= L(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uitos já devem ter visto um algoritmo básico O(|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 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(ou pior) no curso de Autômatos. A idéia dos dois algoritmos apresentados aqui é pare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idéia bás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três algoritmos de minimização procuram pelas classes de equivalência 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classes de equivalência representam estados no autômato minim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lasses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72849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Iní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algoritmo começa com uma partiçã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endo apenas dois blo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hop-ex1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5147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Operação de divi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seguida, os blocos da partição são divididos de forma que, no final, cada bloco represente uma classe de equivalê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o de divisão de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 relação a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op-ex2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59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3:59:11Z</dcterms:created>
  <dc:creator>Leo Kazuhiro Ueda</dc:creator>
  <dc:description>Apresentação de MAC 499</dc:description>
  <dc:language>en-US</dc:language>
  <cp:lastModifiedBy>Leo Kazuhiro Ueda</cp:lastModifiedBy>
  <dcterms:modified xsi:type="dcterms:W3CDTF">2001-12-06T09:29:25Z</dcterms:modified>
  <cp:revision>25</cp:revision>
  <dc:subject/>
  <dc:title>MAC 499 – Trabalho de Formatura Supervisionado IME-USP – BCC, 2001 – Prof. responsável: Carlos Eduardo Ferreira  Projeto de Iniciação Científica Autômatos Finitos: Algoritmos e Estruturas de Dados</dc:title>
</cp:coreProperties>
</file>