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427A-F28C-4A66-B59F-8F07720A38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presentação é de apenas 15 minutos. Está tudo muito por cima, dos algoritmos não dá pra entender nad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artigo recente é de Timo Knuutil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AFF-D328-48BF-A31A-0C1D6D1B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BE2-97C2-4234-8644-9C17104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6A9-44D1-4F53-BE40-00B2700A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62B-B2FA-4B8E-A056-E3EAEE1B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718-BB1B-4B30-BC6B-8FA5C823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8A8-D208-4737-9A35-9D45E930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49A-1126-4FD1-9263-8927015F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14E-4D97-451E-88FA-CAFD2707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467-1EA0-43CF-A71F-EB4CF85A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CFC-AE88-463B-809F-0D8E811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38E-BCF1-4D9D-822D-C6F2424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2C8-A0EB-4128-B049-3ADC2D6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F100-684B-4209-8FEA-5CC4199F8B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499 – Trabalho de Formatura Supervisionado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E-USP – BCC, 2001 – Prof. responsável: Carlos Eduardo Ferreira</a:t>
            </a:r>
            <a:br>
              <a:rPr sz="20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o de Iniciação Científi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ômatos Finitos: Algoritmos e Estruturas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lsa PIBIC/CNPq – março/2001 a fevereiro/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uno: Leo Kazuhiro U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ora e Orientadora: Nami 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que faz de fato o algoritmo s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log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é a ordem em que são feitas as divisões, e essa é principal característica do algorit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 complexidade de tempo depende de uma implementação eficiente de algumas estruturas de dados (listas ligadas e conjun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gasto com as estruturas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Revu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aplicado em autômatos acíc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 complexidade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n) de tempo e espaç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autômato acíclico é um autômato cujo grafo é acíc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utômatos acíclicos são muito usados para representar dicionários e manipular funções boole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icialmente é calculada uma partiçã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... , onde um estado pertence ao bloc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sse a sua altura é i. A figura ilustra essa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v-alturas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438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dé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idéia é nomear cada estado de um bloco de acordo com as suas transições, de forma que um estado é equivalente a outro sse têm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seguida ordenamos os nomes de cada bloco para encontrarmos os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v-ex1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9325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ordenação deve ser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ordenação proposta por Revuz é semelhante ao radix s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ém disso, os nomes dados aos estados não podem ser muito grandes (têm que ser de alguma forma lineares també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m problema de busca de padr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udamos também a aplicação de Autômatos Finitos num caso de busca de padrões num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dos um dicionário K com palavras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um texto x, também uma palavra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saber quais palavras de K ocorrem em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Alfred Aho e Margaret Corasick constrói um autômato que reconhece a linguag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busca de x nesse autômato consome tempo linear no tamanho de x, ou seja, independe de 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Ex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 para K = {he, she, hers, his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c-aut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005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tempo de construção do autômato pode ser linear no tamanho d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também pode ser linear em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verdade, as complexidades de tempo e espaço dependem muito da implementação. Em geral é feita uma troca de espaço por tempo ou vice-ve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trução utiliza as mesmas idéias do algoritmo K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mos os três algoritmos em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objetivo das implementações era apenas compreender melhor os algorit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ou discussões interes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ust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balho praticamente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não muito concr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 que esse te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inal de 2000 estava procurando por um projeto de iniciação científ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itos assuntos aparentemente interessantes e pouco conhecimento sobre eles: indeci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a. Nami ofereceu aj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squisei vários projetos em Autômatos, mas continuei com o mesm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mos então este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experiência foi positiva, aprendi ba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forma de trabalho com a orientadora foi uma novidade interess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disciplinas que eu apliquei diretamente neste trabalho fo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tômatos e Graf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de Algoritmos e Geometria Computacional, para a parte de análise de algoritm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disciplinas básicas e de programação, como ED, Lab 1 e 2, POO, Concorrente, X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Proj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 adquirir mais conhecimentos fundamentais da Teoria de Autômatos Finitos para poder futuramente estudar aplicações mais compl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é agora estuda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os de Minimização de Autômatos Fin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Revuz para autômatos acíc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ão num problema de busca de padr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Aho-Coras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pouco de Autômato dos Sufi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ó lembrand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autômato é uma quíntup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conjunto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 o alfabeto (conjunto de símbo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a função de trans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estad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conjunto dos estados fi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mos que n é o número de estados do autômato (n = |Q|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197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hn Hopcr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 novo algoritmo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rtigo original era muito complicado, entã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vid G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a descrição mais clara (com uma pequena modificaçã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outro artigo recente afirma que, ao contrário do que todos acreditam,  a versão de Hopcroft não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iz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blema que queremos resolver é minimizar o número de estados de um autômato finito determinís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outras palavras, dado um autômato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encontrar o autômato minimal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m o menor número de estados e tal que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=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itos já devem ter visto um algoritmo básico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(ou pior) no curso de Autômatos. A idéia dos dois algoritmos apresentados aqui é pare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déia bás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três algoritmos de minimização procuram pelas classes de equivalência 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lasses de equivalência representam estados no autômato minim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lasses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72849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lgoritmo começa com uma partiçã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endo apenas dois blo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hop-ex1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5147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peração de div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seguida, os blocos da partição são divididos de forma que, no final, cada bloco represente uma classe de equivalê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o de divisão de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 relação a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p-ex2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3:59:11Z</dcterms:created>
  <dc:creator>Leo Kazuhiro Ueda</dc:creator>
  <dc:description>Apresentação de MAC 499 com algumas pequenas correções (feitas depois da apresentação)</dc:description>
  <dc:language>en-US</dc:language>
  <cp:lastModifiedBy>Leo Kazuhiro Ueda</cp:lastModifiedBy>
  <dcterms:modified xsi:type="dcterms:W3CDTF">2001-12-07T02:34:11Z</dcterms:modified>
  <cp:revision>28</cp:revision>
  <dc:subject/>
  <dc:title>MAC 499 – Trabalho de Formatura Supervisionado IME-USP – BCC, 2001 – Prof. responsável: Carlos Eduardo Ferreira  Projeto de Iniciação Científica Autômatos Finitos: Algoritmos e Estruturas de Dados</dc:title>
</cp:coreProperties>
</file>